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27822"/>
        <c:axId val="73874299"/>
      </c:barChart>
      <c:catAx>
        <c:axId val="44827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74299"/>
        <c:crosses val="autoZero"/>
        <c:auto val="1"/>
        <c:lblAlgn val="ctr"/>
        <c:lblOffset val="100"/>
        <c:noMultiLvlLbl val="0"/>
      </c:catAx>
      <c:valAx>
        <c:axId val="73874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27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5DA-63E2-4478-BD51-222CC80A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4CD-E188-4898-950E-56FD7B50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E22-A873-478C-ABDA-E7071378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E10-DE3C-4131-9049-5A85EE99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918-DD2C-4F3D-8797-1E8F6BC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FAB-3674-4426-A899-BD5BD01B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3AB-039D-42D1-B437-BED14177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06D-1082-420E-88EC-4036F1FE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F89-AFB8-4215-80E0-59D43B84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AD6-906B-404B-B8A5-ACED6C8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88A-4C17-40F5-A3FC-22A6137B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0FF-2848-468E-974C-B440D45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4E08E-B0BE-439F-922A-DB915579BC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