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912387"/>
        <c:axId val="63106664"/>
      </c:barChart>
      <c:catAx>
        <c:axId val="769123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06664"/>
        <c:crosses val="autoZero"/>
        <c:auto val="1"/>
        <c:lblAlgn val="ctr"/>
        <c:lblOffset val="100"/>
        <c:noMultiLvlLbl val="0"/>
      </c:catAx>
      <c:valAx>
        <c:axId val="631066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123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91DB-6A01-4AA3-83B6-4371EEDDE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21E6-D4D3-4458-BAA1-B72D421D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0A6A-4E4C-4885-800D-1E2518241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023C-E003-4CAA-A9D2-A819E1CDD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DEF1-370B-4B81-9577-B78F68D6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6629-55A8-412E-AC2B-257B59B4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2E2A-B5B5-4A07-A73E-70BD7E80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F675-34CD-4A58-ACE3-865A9F73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1BD8-0205-4FF8-BE34-D7892E0B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256A-8976-463C-A687-8835F2DF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B877-D4C0-404F-9012-7D75B61D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BD03-C885-4BE7-8140-77280524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98819-0F03-4EB3-9DB6-D2C6396ADA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