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19023"/>
        <c:axId val="34203075"/>
      </c:barChart>
      <c:catAx>
        <c:axId val="90719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03075"/>
        <c:crosses val="autoZero"/>
        <c:auto val="1"/>
        <c:lblAlgn val="ctr"/>
        <c:lblOffset val="100"/>
        <c:noMultiLvlLbl val="0"/>
      </c:catAx>
      <c:valAx>
        <c:axId val="34203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9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AB5-D851-4C05-A40E-423FCFD2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B0C-3C25-4A24-A2C7-AD82455C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AC8-924B-47D1-B72F-9E6F3499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DDBD-E949-4205-90C7-969A790B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9F05-CF81-471F-8140-9DFDBCA0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975-3C23-44CC-9D45-581FD8CD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B3DC-452E-4076-9891-8CC51DE8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A88-AD7F-41DD-A774-A9EDF3BD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76D-C75C-4F42-B810-072A8F56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C07-E4DA-42FE-8682-127F94EC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E82-2167-4326-82C7-1B179537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60E-38BF-4C14-9A79-E7C46AE2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97E62-799C-4C6A-AB03-5C7BEC129E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