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17726"/>
        <c:axId val="66891396"/>
      </c:barChart>
      <c:catAx>
        <c:axId val="32317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91396"/>
        <c:crosses val="autoZero"/>
        <c:auto val="1"/>
        <c:lblAlgn val="ctr"/>
        <c:lblOffset val="100"/>
        <c:noMultiLvlLbl val="0"/>
      </c:catAx>
      <c:valAx>
        <c:axId val="66891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17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C5D-B490-4805-89D2-DDD33EF5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556-7E2E-4583-BFEE-AA8E5E99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289-868A-418F-9BCB-A3414436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FB8-5099-4552-9536-EA652EA1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3CE-0F73-4FCA-924A-F235FFD8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5D1-D71D-4321-9F24-3C20E1D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2DE-B001-403D-8133-07D52CF1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B26-FB8E-4724-A3A6-E403F773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915-96C5-4277-A934-C3F394B9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52B-E4BB-422F-8CBE-0E2E2CE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5C0-3BCC-49A2-BDDE-BAF14F46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3BC-594C-413A-86B3-82CA3C2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18CF7-848F-4687-9BAF-4C5ED9AF7B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