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016407"/>
        <c:axId val="95016508"/>
      </c:barChart>
      <c:catAx>
        <c:axId val="69016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16508"/>
        <c:crosses val="autoZero"/>
        <c:auto val="1"/>
        <c:lblAlgn val="ctr"/>
        <c:lblOffset val="100"/>
        <c:noMultiLvlLbl val="0"/>
      </c:catAx>
      <c:valAx>
        <c:axId val="950165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16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3FF2-CD5F-4F77-88D1-2CC68986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B58-5429-4BD7-9C78-FA7859EF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AF7-6E8A-4E8B-AA40-DE45B5D3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755-1E58-4E77-8129-C9A9DABF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1F78-EA01-4A43-B5DE-04831ABD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681-1616-43A8-8F88-B79CC2F4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09DA-0803-46D8-9256-88C7E3BF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EB00-69C9-412D-ACA3-A3C59D2B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153-4BED-4EA5-AC04-E8D5E7E0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DB69-F6B5-4C06-99AC-5A768412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F59-E6C8-4DA0-AD84-DF499CC7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4C18-5233-4670-AF99-E2D4DF5B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4C7AD-4853-4AE6-8C66-A711BB0C32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