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45140"/>
        <c:axId val="20069817"/>
      </c:barChart>
      <c:catAx>
        <c:axId val="57145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69817"/>
        <c:crosses val="autoZero"/>
        <c:auto val="1"/>
        <c:lblAlgn val="ctr"/>
        <c:lblOffset val="100"/>
        <c:noMultiLvlLbl val="0"/>
      </c:catAx>
      <c:valAx>
        <c:axId val="20069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45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9F7-D279-411B-87F6-D0A08415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1A2-F520-4DBF-A8B8-57E816F5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EDB-B476-4880-A71A-50253C87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A39-9C70-44B3-A9F1-525583B0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C78-7081-4AE3-820C-073D30A8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5A0-F294-49F7-8E2F-BAD797FC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2B9-61BF-408C-A602-BB44B74E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743-62D1-4462-BFF8-B4BB222F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A2A-4DDD-4FAD-83A5-D4AF9B49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402-2BCE-48C6-9E17-5236D5E6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57C-5E9D-44F1-85D9-9DA9F625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2CF-328E-48F9-8C47-D2FD8736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B8A70-C916-4F4C-A560-6F112A530C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