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6245"/>
        <c:axId val="97407719"/>
      </c:barChart>
      <c:catAx>
        <c:axId val="91046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07719"/>
        <c:crosses val="autoZero"/>
        <c:auto val="1"/>
        <c:lblAlgn val="ctr"/>
        <c:lblOffset val="100"/>
        <c:noMultiLvlLbl val="0"/>
      </c:catAx>
      <c:valAx>
        <c:axId val="97407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6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13B-2BFA-4CC2-88AB-1EB25E6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603-2137-48F4-AECB-79447EC2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D75-35D8-4044-9FA3-3B751A55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588-FE96-4E6A-B98A-3AD26E87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035-A4C8-47BA-B35D-FAA4F4B1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77B-C922-4EEE-8DDE-B1412DD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DC8-B718-45CE-983A-8BAB3F75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4DF-5A94-49F0-AA2D-073DF8D4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CA9-01F0-44C0-98C3-92BA8A4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5D7-94DB-4812-A448-2656654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11D-18CC-4890-A84A-A7DA1C3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2AD-B3DE-4B63-ACB0-2DADC28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9A475-83ED-4E27-AF80-854D95C6C0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