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965619"/>
        <c:axId val="65485946"/>
      </c:barChart>
      <c:catAx>
        <c:axId val="159656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485946"/>
        <c:crosses val="autoZero"/>
        <c:auto val="1"/>
        <c:lblAlgn val="ctr"/>
        <c:lblOffset val="100"/>
        <c:noMultiLvlLbl val="0"/>
      </c:catAx>
      <c:valAx>
        <c:axId val="654859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9656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2050-9E80-4F15-9D65-EA2920A94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DE31-FA5C-4DC5-B618-E0965D1F3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4EB6-5E6A-4A3A-90F8-ED4DFE83E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79AA-EE2B-4CB0-B137-B2D0E8D74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A66D-9266-4812-9FAE-595CFF9B9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8C3C-C7D0-4FB1-B24D-B10B1782C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22DB-7993-45CA-9535-A4B52EAD9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BE6E-21BA-4AA2-8F57-8C769F395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BE41-D8BD-4187-866E-90FBDA4FC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F594-5902-4F3B-BEF2-C3671C58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C06B-F2C5-4877-A476-BB1D324C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000E-C7C1-41DC-915C-E126B315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3FBFC2-61E2-4D9F-A451-46C4C7D3DC3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