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284919"/>
        <c:axId val="36545930"/>
      </c:barChart>
      <c:catAx>
        <c:axId val="34284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5930"/>
        <c:crosses val="autoZero"/>
        <c:auto val="1"/>
        <c:lblAlgn val="ctr"/>
        <c:lblOffset val="100"/>
        <c:noMultiLvlLbl val="0"/>
      </c:catAx>
      <c:valAx>
        <c:axId val="36545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84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DA4-EEC5-461F-B677-776A95C6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C78-EDB6-421D-BB68-44A5C95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83B-AD64-41FD-A6A0-E7F05E1C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31B-BF2E-4278-A3A9-2D9A2702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B83-9C76-4954-BB05-497C7B3D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146-E0AA-41DA-BE7E-6D8C865B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F7E-C607-46CC-82F3-2407F2F3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3DF-875B-46DE-A5ED-7C7A95BC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512-83C7-41B5-AA7A-40065E31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4DF-8935-40DA-901D-6381C27D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555-C35E-426D-8ABE-51E5BD5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32B-715C-457D-894F-1E20BD77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4C090-F69F-492B-BB23-746F9BA7AC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