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08447"/>
        <c:axId val="89190435"/>
      </c:barChart>
      <c:catAx>
        <c:axId val="16108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90435"/>
        <c:crosses val="autoZero"/>
        <c:auto val="1"/>
        <c:lblAlgn val="ctr"/>
        <c:lblOffset val="100"/>
        <c:noMultiLvlLbl val="0"/>
      </c:catAx>
      <c:valAx>
        <c:axId val="89190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08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A32-68C1-4AAD-91CC-6C2ABF74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891-78BA-4CEA-A55A-4679587D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563-0310-47F7-9BAC-F331D71E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3BA-ACE2-429D-8B7E-8FB287EA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FCC-1F32-4F49-B9FB-C4F7AD2C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14C-7D56-4945-9202-AE639F4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151-05F8-4B75-9EAB-6AE97916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420-5F4D-4A8E-9F31-68078429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4A5-F6AF-457F-931F-E898AA33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F72-3729-49F5-880E-6479479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504-CFB5-4FF2-8DA1-72871D4D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4F8-5E34-4DD1-946C-CFDD3FB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FC0E1-7E71-4083-8689-44A9004C8F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