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28011"/>
        <c:axId val="12502587"/>
      </c:barChart>
      <c:catAx>
        <c:axId val="82528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02587"/>
        <c:crosses val="autoZero"/>
        <c:auto val="1"/>
        <c:lblAlgn val="ctr"/>
        <c:lblOffset val="100"/>
        <c:noMultiLvlLbl val="0"/>
      </c:catAx>
      <c:valAx>
        <c:axId val="12502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28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76C-03CA-4620-947C-C8C91C71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8D8-D998-4F58-8C36-535D2AD9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6C7-DA29-4A4B-B035-32CF102B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F6C-D8AD-4CDC-B024-481B028F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1D6-4FF4-4678-997D-96D3A847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183-07D3-4189-B592-D95746C0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6B2-E20E-488A-8F61-7BEB8922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8D3-13C7-46A8-A694-2F1D2C1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FE9-E4B3-4087-AFE8-82B855F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064-88E9-4C6C-ADDA-8CB9A17F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5A4-13B8-41B2-B7BD-2E83472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8E8-D362-42A8-949B-D0BF368B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3561A-9DA3-4F6B-8574-DB184BEA01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