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7639784"/>
        <c:axId val="47084594"/>
      </c:barChart>
      <c:catAx>
        <c:axId val="9763978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084594"/>
        <c:crosses val="autoZero"/>
        <c:auto val="1"/>
        <c:lblAlgn val="ctr"/>
        <c:lblOffset val="100"/>
        <c:noMultiLvlLbl val="0"/>
      </c:catAx>
      <c:valAx>
        <c:axId val="4708459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63978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AF2C-7CEF-4216-B79D-B06595A21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3250-F1E3-4333-9398-22C279DE6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B2CB-97BE-4210-8D8D-2B6B8E835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25BE-24C2-4BCE-87F4-525B12820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2EE3-8806-4DA5-AE07-7FFD7C367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D963-2D08-4E75-8CE7-F738436EE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2A94-3111-49FE-A629-4DA541097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A976-0627-46E8-B40F-7C9E9C082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4003-B48A-49EB-9220-702E3013C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57B1-5158-42B5-80C5-E3DEF2610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4F0C-D6A2-490E-834E-DEE90A3F5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E718-E982-46D9-8507-62EB8CFDF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7E53BF-40B3-42E9-8520-DDDFE95BDE1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