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06191"/>
        <c:axId val="44206015"/>
      </c:barChart>
      <c:catAx>
        <c:axId val="12506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06015"/>
        <c:crosses val="autoZero"/>
        <c:auto val="1"/>
        <c:lblAlgn val="ctr"/>
        <c:lblOffset val="100"/>
        <c:noMultiLvlLbl val="0"/>
      </c:catAx>
      <c:valAx>
        <c:axId val="44206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06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639-EE74-4B3D-B414-1AC4402F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8DB-D595-46A3-AB62-2FB79C7A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588-FCFF-45C1-A0A6-F4C79F77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257-636D-447F-BB0F-ED9EC4C4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043-60D8-463C-B487-C8615745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91F-173C-4319-A422-E4C9271C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163-1090-4982-A811-C0FFB8D6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BE2-7731-493C-AA8D-EE6E5C70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F5E-9FF6-4512-BC3E-C529F5EF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B82-A32C-4815-9D5F-A008E448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B58-ECA3-44E3-98E9-5A3864D7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19C-D8A0-462C-B8C4-66846EC3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51056-2465-4C2A-A91B-9B81221DD3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