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4035243"/>
        <c:axId val="53283738"/>
      </c:barChart>
      <c:catAx>
        <c:axId val="3403524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283738"/>
        <c:crosses val="autoZero"/>
        <c:auto val="1"/>
        <c:lblAlgn val="ctr"/>
        <c:lblOffset val="100"/>
        <c:noMultiLvlLbl val="0"/>
      </c:catAx>
      <c:valAx>
        <c:axId val="5328373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03524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7D74-202C-4D6E-A1D3-32A2E5D43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8F21-7DB3-4B44-964B-5B71C6762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4ED2-6ED4-4D0E-B725-5B34290FB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AAB6-A2FC-49EE-B2DA-FB390B07D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5A5D-02B8-4CE9-B360-18E2A3683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7F39-E406-495A-8C25-16DC2BD25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1381-59B5-44D3-9C02-13F02A283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2D57-F531-4380-A336-6DFE717AF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C5A9-3D34-4C02-8CC6-4ACA0263D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BC12-9908-4CC4-9BAD-DFE3DD9AA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D856-D5B6-40BE-BDCA-CE11B77C0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7583-4891-411C-978C-64E82FC83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E2DBA3-3544-46F1-8E58-BE3184D5D77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