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90860"/>
        <c:axId val="19339050"/>
      </c:barChart>
      <c:catAx>
        <c:axId val="31390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39050"/>
        <c:crosses val="autoZero"/>
        <c:auto val="1"/>
        <c:lblAlgn val="ctr"/>
        <c:lblOffset val="100"/>
        <c:noMultiLvlLbl val="0"/>
      </c:catAx>
      <c:valAx>
        <c:axId val="19339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0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B68-12B1-419E-B3D4-9476881D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6C8-E00E-4FD0-80C5-8C0F39D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472-0661-4ED3-8456-993608A5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462-F413-4E37-8BB7-027C871C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E04-FB68-4942-B8AE-EC07A01C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DD9-C38E-4AAA-8129-2B12DF91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0A1-7FF6-4ABC-9FA1-D9FDE493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A9E-A670-4E86-AD49-2D175A4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61E-FD65-45D2-A444-72BBC5DF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1B7-9A1C-4C6C-9429-2BCA4474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F06-08FB-416B-877C-1EF7657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BA0-7475-49C6-9FD9-74E9813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29B70-E8BA-4936-A625-1D0B68D38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