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613126"/>
        <c:axId val="30176868"/>
      </c:barChart>
      <c:catAx>
        <c:axId val="996131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176868"/>
        <c:crosses val="autoZero"/>
        <c:auto val="1"/>
        <c:lblAlgn val="ctr"/>
        <c:lblOffset val="100"/>
        <c:noMultiLvlLbl val="0"/>
      </c:catAx>
      <c:valAx>
        <c:axId val="301768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6131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CA89-ACF8-42B3-BCCE-9AD0BF8DF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C38E-C628-4998-B38C-7FB596BB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0B0C-7B55-4EA1-B2DD-6B9A2A696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24DA-927D-4FEC-A336-A1E37CEFB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8EBA-C39E-487F-93BD-DE476525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6EC0-9FFF-443E-957F-7B5F8B90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78DA-D818-4FF1-883C-F3F6D550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94CA-1A95-468E-9D73-4085F9A5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02D4-7211-4171-B703-70E47A95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0FC4-F4A1-412F-A3F3-F174A5F6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ABB2-B64F-4EF2-8CC9-C5DF27E2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A70B-AAD7-4108-9825-3C243E3B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E30AC-9AA2-429F-8485-22BFCA86E7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