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745719"/>
        <c:axId val="86238415"/>
      </c:barChart>
      <c:catAx>
        <c:axId val="90745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38415"/>
        <c:crosses val="autoZero"/>
        <c:auto val="1"/>
        <c:lblAlgn val="ctr"/>
        <c:lblOffset val="100"/>
        <c:noMultiLvlLbl val="0"/>
      </c:catAx>
      <c:valAx>
        <c:axId val="862384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745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3102-15BA-429C-BC86-B489251B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404-EDD0-48AB-9611-136AE0FE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16C-53F8-4AD5-A8A3-EA5F1838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F5E-3546-4158-A671-A0B65213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CDF-66F2-4CEC-9222-F23308E1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907-7C2A-43FE-A48F-C9531B4D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6429-9A3F-45A9-9D7A-B62B4671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951-DE07-49A8-AE55-F687A895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087-FCB3-408E-8176-570FA1F9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EBE8-BCDD-43F4-A45A-2826E703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56F4-8B6D-4A38-8F7B-0DE33685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3709-44E4-4493-A86A-A67F4CDF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5DCB2-A5F7-4E6A-81D6-2D410135EB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