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82387"/>
        <c:axId val="22939131"/>
      </c:barChart>
      <c:catAx>
        <c:axId val="91182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39131"/>
        <c:crosses val="autoZero"/>
        <c:auto val="1"/>
        <c:lblAlgn val="ctr"/>
        <c:lblOffset val="100"/>
        <c:noMultiLvlLbl val="0"/>
      </c:catAx>
      <c:valAx>
        <c:axId val="22939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82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0C23-587A-4BC3-9014-70DBAE88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37C-1439-451B-B63B-C4C7750D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BA3-D2B4-4CAE-BC29-6A458409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D56-B524-4BCE-B870-63E650E3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0D7-8ACA-4CC7-A9F6-A4BBD6D1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8769-CFFB-4C93-94E4-10C41E88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1B0B-B7CA-45FE-855C-7049493B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8CA-C1B7-40B4-86BF-BCABB9BE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8BB-7097-41FA-8C26-123C0D97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60C-E4D1-495D-8EB9-13E56908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F65-7B1C-4DCE-9EA1-981CED3E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135-1E0E-485F-8768-E2998F2A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B01AF-67B7-460D-89C5-53D6A6CCAD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