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93071"/>
        <c:axId val="73722899"/>
      </c:barChart>
      <c:catAx>
        <c:axId val="81393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22899"/>
        <c:crosses val="autoZero"/>
        <c:auto val="1"/>
        <c:lblAlgn val="ctr"/>
        <c:lblOffset val="100"/>
        <c:noMultiLvlLbl val="0"/>
      </c:catAx>
      <c:valAx>
        <c:axId val="73722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3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EB9-9B44-4FF3-ABAC-A44B60B6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8D3-8A71-48FB-8FC3-4104A4F9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429-ECDE-479A-B4DF-9E746938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3D1-29E4-4618-864C-ED932772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5ED-9D5B-44FF-A2F6-71EAA25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DA4-19E2-4824-B31D-FB41E037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722-920E-4EB0-A4B3-109E35E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6CA-9A7D-42C5-A936-D4A8D176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8B3-F3C0-4675-95AA-FB57454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A4C-9ABB-4B06-A702-45CA6702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A21-77EE-444C-99E7-5CEA0BD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DEE-8CFE-4312-86B3-633AB05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17A47-F782-4081-B4A6-BA27BD184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