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47594"/>
        <c:axId val="91012785"/>
      </c:barChart>
      <c:catAx>
        <c:axId val="33247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12785"/>
        <c:crosses val="autoZero"/>
        <c:auto val="1"/>
        <c:lblAlgn val="ctr"/>
        <c:lblOffset val="100"/>
        <c:noMultiLvlLbl val="0"/>
      </c:catAx>
      <c:valAx>
        <c:axId val="91012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47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6AD3-55C5-4F17-82CC-0853FE75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742-C81D-4AF3-8546-37B7ECF2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966F-BE24-4737-BB1D-88FB08C6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CD13-1D64-4EB9-8903-90A7F20E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D87-6A59-4262-8091-D4715601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812C-AD7D-4712-9527-BD20468C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C17C-87EB-4682-98C8-BC5093F9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1264-9658-4942-A9BA-98440A48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8857-5EAC-4565-A548-694AA986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720A-5FCC-4A45-A00F-D47A4AA3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0A04-F9AC-4000-831B-EFA0145D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C1DB-5FCB-4E39-939C-E55AAA90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AE751-1C46-4ABA-9AA3-83600E0D5B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