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57341"/>
        <c:axId val="12160755"/>
      </c:barChart>
      <c:catAx>
        <c:axId val="32857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60755"/>
        <c:crosses val="autoZero"/>
        <c:auto val="1"/>
        <c:lblAlgn val="ctr"/>
        <c:lblOffset val="100"/>
        <c:noMultiLvlLbl val="0"/>
      </c:catAx>
      <c:valAx>
        <c:axId val="12160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7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16C-CBFE-4B6B-A438-FCCFB0D8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BF7-6DB8-438B-9E40-95895DC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78E-88ED-4B11-8657-28FBBF61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46E-15F7-4B8D-8266-68F1B562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5C6-5DE5-4E27-9DAE-330AEB9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132-4DDE-4694-ADD3-9170C74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7D8-5874-4F47-B19B-42CE2450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3AA-23A1-4837-9FCA-64C76FE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1A7-CE20-4C82-AC90-A6C2854A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0D6-AE03-43A5-B8CE-F8B337F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C43-8197-44A3-A1F0-62D061A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DA3-2612-410B-877C-097FC8F7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E0DD5-E3CC-448E-AC1B-D3949B8C5B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